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94E-3479-4697-BEB5-2B00F4D7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0120" y="2065248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C43-7E78-427A-A2DB-555EDAF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052-0BD2-417E-B00E-290B9385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656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64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012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656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64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0E2-DAA6-4C00-AEA9-83D22ED2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75"/>
              </a:spcBef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BD7-375D-4AF2-9BD0-D2AEFAC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8505-1611-4E0D-A53E-001EAF68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6F1-0E88-4377-9257-DC3D108B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B83-D9B9-4AB8-8EFA-2A56628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0120" y="3047760"/>
            <a:ext cx="4352616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75"/>
              </a:spcBef>
              <a:tabLst>
                <a:tab algn="l" pos="0"/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11E-941D-4BF0-B7F3-E23E3692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53F-3ADC-4DF3-9F88-5531FC2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7FF-982E-43BD-89F0-F6DF02B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AFB-AAB5-480D-A563-F259DA8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2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 fontScale="93000"/>
          </a:bodyPr>
          <a:p>
            <a:pPr marL="1703520" indent="-170352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0720" indent="-141840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2" marL="5679360" indent="-113652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3" marL="7951680" indent="-113688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9760" y="31241880"/>
            <a:ext cx="1066788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6000" y="31241880"/>
            <a:ext cx="1621440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 algn="ctr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31241880"/>
            <a:ext cx="1066788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 algn="r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884840"/>
                <a:tab algn="l" pos="9769320"/>
              </a:tabLst>
            </a:pPr>
            <a:fld id="{3B38093A-9113-4960-B2E4-D781DFA0712E}" type="slidenum"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donesia_basin" descr=""/>
          <p:cNvPicPr/>
          <p:nvPr/>
        </p:nvPicPr>
        <p:blipFill>
          <a:blip r:embed="rId1"/>
          <a:stretch/>
        </p:blipFill>
        <p:spPr>
          <a:xfrm>
            <a:off x="576360" y="1633680"/>
            <a:ext cx="50053680" cy="31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21:22:16Z</dcterms:created>
  <dc:creator>Gulf User</dc:creator>
  <dc:description/>
  <dc:language>en-US</dc:language>
  <cp:lastModifiedBy>Gulf User</cp:lastModifiedBy>
  <dcterms:modified xsi:type="dcterms:W3CDTF">2001-09-26T21:23:46Z</dcterms:modified>
  <cp:revision>1</cp:revision>
  <dc:subject/>
  <dc:title>No Slide Title</dc:title>
</cp:coreProperties>
</file>